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EAF-5749-4FC7-A242-9A19135C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BDC-4D72-43C3-8116-E64F8BA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898-C5F3-42CF-A6B4-2D4985AE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40B-83FA-4AD2-A230-13A4E97D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76A-29A9-4B75-8796-F3F765E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209-8DE8-472A-989B-7027532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3AC-9899-47DB-8AAF-8A4E9ED5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B1E-F045-430B-BFF9-50FE547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E8C-3E73-4F54-9267-543C0D7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008-4F1E-403A-9304-8E648A4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3DD-E37F-406E-A2C5-2DBEC40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65C-D595-4F1E-9EB8-057632F3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F38-3E43-408E-89F5-5574F965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lue Globe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tazási ir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 Black"/>
              </a:rPr>
              <a:t>Szolgáltatása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e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Kü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epülőjegy érték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Valuta 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Szállásfogla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tó b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52:35Z</dcterms:created>
  <dc:creator/>
  <dc:description/>
  <dc:language>en-US</dc:language>
  <cp:lastModifiedBy>kede</cp:lastModifiedBy>
  <dcterms:modified xsi:type="dcterms:W3CDTF">2001-10-27T07:29:16Z</dcterms:modified>
  <cp:revision>2</cp:revision>
  <dc:subject/>
  <dc:title/>
</cp:coreProperties>
</file>