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FBA-7C12-4BC9-B027-A33800F0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255-25B7-4635-ADB6-3351681E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C32-B356-4E72-96CF-3D0E7366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F65-A37C-4F58-8ACA-DB5299A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477-09A6-49BC-91CB-CA77ADC9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CCF-1401-46CF-8E7C-13AA9FE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71B6-8746-4E97-9D3E-64E54CFD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D5E6-DA07-4B85-8CE5-C7DF00E2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DE3A-2734-464F-95F7-BA2A5739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2971-CE78-4B5F-AD04-86C7334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F89-6581-4BCE-9F3F-67A03198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CD8-3B69-4652-83C4-AAA51443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FA74-941F-4D84-B3F5-8A8CBFA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38C8-2D9B-4B52-B377-96F7C37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359B-3B01-4F95-AABD-24B49DD0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F17B-BE1E-4AC8-B2D0-23D35B7F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AF6-66BA-4F64-995B-9074B6E8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E38-FA7D-42E1-A4E6-47520E5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879-277F-4FE1-A893-877E678E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946-8C2B-4D32-8A8B-E59B0AFE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04A-A41F-4DAA-AB75-5C9C6BF2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489-D67D-42B6-B80B-E0AE397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BE2-1E66-434E-9D71-42FB5B6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7CD-B1B0-4CF9-962A-502B176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EE21-92C3-4878-80D5-93A1EB9ED231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10C8-9CA3-4A5C-80E8-42FBB44876AE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Budapest hídjai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 Narrow"/>
              </a:rPr>
              <a:t>Hidak a két városrész közöt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Erzsébe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Lánc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Szabadság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Margi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3:18:05Z</dcterms:created>
  <dc:creator/>
  <dc:description/>
  <dc:language>en-US</dc:language>
  <cp:lastModifiedBy>kede</cp:lastModifiedBy>
  <dcterms:modified xsi:type="dcterms:W3CDTF">2001-10-27T08:01:29Z</dcterms:modified>
  <cp:revision>2</cp:revision>
  <dc:subject/>
  <dc:title/>
</cp:coreProperties>
</file>