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FD5-A679-4D71-9044-EAF3D8A1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A63-23DF-4960-A79A-5E9CF10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686-344E-4441-8ED7-F199E6E1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09E-C38A-4206-B396-BE21AF4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0B83-96EA-41F9-99C1-58DC2F9C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6A23-0C1A-4E2C-BE38-D6CFE53A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93CB-968E-4EF4-AC19-3D70D7DE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B217-9F7A-4EEE-8D5F-30DD5F7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F85B-6081-447C-8B70-89B57871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93A-82B1-4A6B-B724-B1FDB128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60EC-571C-4338-9704-3435B191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BB4-5950-4619-8075-FA1C50A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7ECF-2F0D-4FED-A0CF-FABF776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87AF-E549-4BE9-8637-1006BA6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3B10-056F-418C-BF57-AD4FA48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94ED-34A8-40A6-A065-782AD730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899-32E1-4CD6-A8CB-8CF91CA4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B1E-5B12-4CFA-AEE2-CB716AC7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2F8-A320-4AFB-9677-140812D5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B2C-D500-4627-BD5F-DCD363AA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81A-9843-420C-997F-6B04B00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0C2-E04B-4119-9C0A-AFBC972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CF7-75F4-4094-90CF-222F1C1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F3C-E90C-4C2F-AECF-E81C8C1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1DEC-9FC7-4720-92DA-34F75A4F3A5C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E5CC-AF8F-473C-B340-7DC8F48D718C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"/>
              </a:rPr>
              <a:t>Gombaismeret mindenkin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A gombák természetérő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Ehető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yógyító</a:t>
            </a:r>
            <a:r>
              <a:rPr b="0" lang="hu-H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Hallucinogén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Mérges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Ehető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iper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alamb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Vargán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egfű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arva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árga ró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Ánizsszagú tölcsér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yógyító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ecsétviasz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Késői las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hii-take 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epketapl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Téli fülő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yapja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Hallucinogén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silocyb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attanós maszla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Mérges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Őszi tőke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Mérges pókháló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edős papsap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ánco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8:49:34Z</dcterms:created>
  <dc:creator/>
  <dc:description/>
  <dc:language>en-US</dc:language>
  <cp:lastModifiedBy>kede</cp:lastModifiedBy>
  <dcterms:modified xsi:type="dcterms:W3CDTF">2001-10-26T12:31:40Z</dcterms:modified>
  <cp:revision>3</cp:revision>
  <dc:subject/>
  <dc:title/>
</cp:coreProperties>
</file>