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driveby.wav" ContentType="audio/x-wav"/>
  <Override PartName="/ppt/media/image6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5FF-6109-48BD-B1F2-C2E21C40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270E-ABCB-414E-8819-31CFAA95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A44-BF29-4028-8859-F4D69C7F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FF63-67AE-418C-8725-AD9DF7B5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129B-4EAF-45B6-B5ED-9E051890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E737-BA29-47C7-ADF8-33AEF48B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B3AD-BC70-4640-88E5-1A26D650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A913-C732-4301-AD78-A69EB063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9257-352C-4144-9626-3AA91870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E0CB-B24B-4BD5-8607-8792D868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A0C1-B2E6-455A-B096-61DDE015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58DC-0012-4C69-A63A-16238975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B040-2499-4C4C-86EE-28FC2229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02D6-80ED-430D-A704-85B47D75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D44A-A39F-4E2F-8B42-90F61555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CF59-722E-4FB6-BB9E-AA5B9E33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8ECF-B44C-4012-A648-55371A0A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C35-4CFA-470E-AA98-6D1325FD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1C7-C46A-4A0F-B128-50C93896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F3D-960A-44BA-B4F1-FCA9783C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17C-4EBB-490B-B1C1-2658BE2F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CAB4-D0D6-4CE5-AD20-26BB6A9E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566-6EEF-4F06-AB63-3BB43B03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E868-C9EB-4908-BA88-619A236D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2F26-EF2A-4D20-835F-9D89D585E0B0}" type="datetime3"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2026. júl. 31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72B0-E60F-4DE7-AA3B-FFD4A5F5DC69}" type="slidenum">
              <a:rPr b="0" lang="hu-HU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2DC5-A4A5-464C-915D-AEA09E9EE0E9}" type="datetime3"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2026. júl. 31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38DA-0C49-45E4-B21D-BFB23834D452}" type="slidenum"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audio" Target="../media/driveby.wav"/><Relationship Id="rId1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Black"/>
              </a:rPr>
              <a:t>A zene klasszikusai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987640" y="1905120"/>
          <a:ext cx="3166920" cy="41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1905120"/>
                    <a:ext cx="31669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zene klasszikus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C0CF-BE7D-4283-BD3F-AF7A840ECCD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FC951-D3E7-4E20-9F9C-C857C6C18DA8}" type="datetime3">
              <a:rPr lang="en-US"/>
              <a:t>July 31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33"/>
                </a:solidFill>
                <a:latin typeface="Times New Roman"/>
              </a:rPr>
              <a:t>Zeneszerzők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66688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Hayd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Mozart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Beethove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Chopi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90680" y="266688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Liszt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Bach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Debussy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Vivaldi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zene klasszikusa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326F-6421-4404-B30E-903254032C82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B0B37-CD6D-48E4-874F-9050739F4017}" type="datetime3">
              <a:rPr lang="en-US"/>
              <a:t>July 31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33"/>
                </a:solidFill>
                <a:latin typeface="Times New Roman"/>
              </a:rPr>
              <a:t>Haydn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333333"/>
                </a:solidFill>
                <a:latin typeface="Times New Roman"/>
              </a:rPr>
              <a:t>művei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811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-dúr „Császár” vonósnégy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Esz-dúr „Dobpergés” szimfóni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Élet a Hold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equie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eremt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Évszakok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óbiás hazatérés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9" name="EN00354_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1132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zene klasszikusa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6A5-0B91-48B1-B86E-400A3CA63A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B8EEA-EC9B-4E7F-AEE5-C52F45BEBD42}" type="datetime3">
              <a:rPr lang="en-US"/>
              <a:t>July 31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1840" y="2251080"/>
            <a:ext cx="888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Korának legnagyobb zeneművésze volt. Műveinek nagy részét az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Esterházy-rezidencián alkotta. Egyházi fiúkórus tagjaként került 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kapcsolatba a zenével. Később zeneszerzést tanult, majd kisebb 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műveket írt.1759 –től zeneigazgató, majd 1761 –től Esterházy Pál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zenekarában másodkarnagy. 1790–ben nyugdíjba ment és Bécsbe 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költözött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endkívül sok zenemű fűződik a nevéhez, a daloktól az oratóriumokig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1809-ben hunyt el, 77 éves korában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48040" y="1641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(1732 – 1809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86640" y="258840"/>
            <a:ext cx="4641840" cy="10184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ntique Olive"/>
              </a:rPr>
              <a:t>JOSEPH HAYD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3" name="Haydn" descr=""/>
          <p:cNvPicPr/>
          <p:nvPr/>
        </p:nvPicPr>
        <p:blipFill>
          <a:blip r:embed="rId2"/>
          <a:stretch/>
        </p:blipFill>
        <p:spPr>
          <a:xfrm>
            <a:off x="7313760" y="66600"/>
            <a:ext cx="1188720" cy="1381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7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Joseph Haydn</a:t>
            </a: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zene klasszikus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CF4-F9BC-4981-B169-84581DE941B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271CE-3FB8-4240-B0BE-C47129421F86}" type="datetime3">
              <a:rPr lang="en-US"/>
              <a:t>July 31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11:53:06Z</dcterms:created>
  <dc:creator/>
  <dc:description/>
  <dc:language>en-US</dc:language>
  <cp:lastModifiedBy>kede</cp:lastModifiedBy>
  <dcterms:modified xsi:type="dcterms:W3CDTF">2001-10-27T11:30:32Z</dcterms:modified>
  <cp:revision>14</cp:revision>
  <dc:subject/>
  <dc:title/>
</cp:coreProperties>
</file>