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878-AFBB-420C-A0D4-F7D14012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94D-80A8-46AC-A606-30EB6F4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15B-638B-487A-80FB-2D2FF718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F86-3A5E-4009-ADD7-C53980B1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265E-779C-4F22-9C6A-3FD5E44F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4F83-E766-49B3-9343-F73C2C96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3DAB-E0B0-486F-BA00-563ABB9B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59B0-3FD2-41C2-87F2-747FC648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D03-E80B-416D-A4E2-9A55956C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C90C-6000-43D5-8F0E-10263D2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66E-C55E-440A-BFC4-D344F8E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ED4-187F-4E79-BAFA-BDEEC8C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CA1C-303F-4F93-A42E-BE884BA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B1B6-A1E1-4153-A467-BFCA17D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C55-8F6C-4F51-AFA2-0E532B4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50C8-D319-416B-83DA-ABEA1F65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9065-02C4-47DF-99DC-57AEB3A2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9F3-7166-4529-95A8-81921C7E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74B-5D84-4550-BC9A-55367FC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08E-8A84-4A27-B567-CCE4506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13A-F6D2-474C-AA3B-4BCFCCF0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659-E732-4907-97A2-367F00B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066-221C-4F10-9101-0AD8AC15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7BF-0F3C-4383-BAE5-F8F64CD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21A-229C-4AC6-BAD6-B1506DD423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949B-2831-42C2-9B44-75DC3F93E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0033"/>
                </a:solidFill>
                <a:latin typeface="Tahoma"/>
              </a:rPr>
              <a:t>Gazdasági adato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zámítástech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2080" y="6308640"/>
            <a:ext cx="70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FORRÁS: Az információs és kommunikációs technológiai szektor Magyarország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KSH, 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ahoma"/>
              </a:rPr>
              <a:t>A számítástechnikai szakágazatok nettó árbevé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39800" y="1685880"/>
          <a:ext cx="8224920" cy="4551480"/>
        </p:xfrm>
        <a:graphic>
          <a:graphicData uri="http://schemas.openxmlformats.org/drawingml/2006/table">
            <a:tbl>
              <a:tblPr/>
              <a:tblGrid>
                <a:gridCol w="2674800"/>
                <a:gridCol w="1387440"/>
                <a:gridCol w="1387800"/>
                <a:gridCol w="1387440"/>
                <a:gridCol w="1387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dagépgyár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ógépgyár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ver szaktanácsa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ftverkészí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tfeldolgoz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da- és számítógép-jav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b számítástechnikai tevékeny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s kettős könyvelést vezető c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70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86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44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38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68360" y="6437160"/>
            <a:ext cx="82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táblázatban szereplő adatok millió forintban vannak megad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ahoma"/>
              </a:rPr>
              <a:t>A számítástechnikai szakágazatok export árbevé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39800" y="1685880"/>
          <a:ext cx="8224920" cy="4551480"/>
        </p:xfrm>
        <a:graphic>
          <a:graphicData uri="http://schemas.openxmlformats.org/drawingml/2006/table">
            <a:tbl>
              <a:tblPr/>
              <a:tblGrid>
                <a:gridCol w="2674800"/>
                <a:gridCol w="1387440"/>
                <a:gridCol w="1387800"/>
                <a:gridCol w="1387440"/>
                <a:gridCol w="13874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dagépgyár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ógépgyár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7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ver szaktanácsad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ftverkészít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tfeldolgo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da- és számítógép-javí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b számítástechnikai tevékeny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s kettős könyvelést vezető c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5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89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3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0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68360" y="6437160"/>
            <a:ext cx="82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táblázatban szereplő adatok millió forintban vannak megad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8:38:45Z</dcterms:created>
  <dc:creator/>
  <dc:description/>
  <dc:language>en-US</dc:language>
  <cp:lastModifiedBy>viking</cp:lastModifiedBy>
  <dcterms:modified xsi:type="dcterms:W3CDTF">2002-01-31T10:54:57Z</dcterms:modified>
  <cp:revision>10</cp:revision>
  <dc:subject/>
  <dc:title/>
</cp:coreProperties>
</file>